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979-B915-4614-A821-15EC5380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76C-FCCA-4EED-B084-1993C60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BFE-AFBA-4275-AFA4-D8ABE333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6E6C-C716-4E72-A912-F350D306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B67-284B-4B51-B158-266EE22C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B4E-4B0D-4601-A968-5B857677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876-23F8-4D18-97CD-CCAD7700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AA7-65AD-4E07-BC2B-C19B41E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213C-8EBB-41B1-B0A5-28E2A9C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13E-6AEA-40E0-8574-FA1701E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2C5-75EB-493A-A61C-7DDBF20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649-8C1D-4BC4-B102-89D5416F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A518-DAF4-48F4-BEC1-74517A1A0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Emmanuel Y Ed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 Es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Inv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Primave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El  Ot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lackadder ITC"/>
              </a:rPr>
              <a:t>L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Mae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os Lop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Escri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lackadder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lackadder ITC"/>
              </a:rPr>
              <a:t>La Piza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8:58Z</dcterms:created>
  <dc:creator>WSFCS Workstation</dc:creator>
  <dc:description/>
  <dc:language>en-US</dc:language>
  <cp:lastModifiedBy>WSFCS Workstation</cp:lastModifiedBy>
  <dcterms:modified xsi:type="dcterms:W3CDTF">2010-04-27T19:00:07Z</dcterms:modified>
  <cp:revision>3</cp:revision>
  <dc:subject/>
  <dc:title>La Clase De Espanol</dc:title>
</cp:coreProperties>
</file>